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0285-DDD3-4D70-A2B1-E0D80063F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9CFC-FA66-4844-A727-EB4B31AED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E4BB-4C1C-4EC2-977F-6735B45E2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25B8-D195-42CE-B591-9374555EB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BADE-1BCD-4AA0-AEF8-93CBB6C86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6AF9-4492-4E72-9907-94E2C56D1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C808-D9BC-4CE9-BFC3-14944BF79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B4D4-D9FE-46AE-AF06-A55D69CAA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D95C-3078-4F4A-AEEB-BB79CD319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6AAB-18CC-41D2-A454-C0D79C46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4ABC-6381-43FF-A6A4-63540621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0FB8-8108-40E6-A806-87F59156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1C661-4EF1-45D1-BF30-D3271B2EB0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blogs.edweek.org/edweek/curriculum/upload/2008/08/a_few_good_test_experts/446px-uncle-sam-pointing-finger-1.jpg&amp;imgrefurl=http://blogs.edweek.org/edweek/curriculum/2008/08/&amp;usg=__UdKIcP1YUSceije5BYR1icS8sgY=&amp;h=599&amp;w=446&amp;sz=60&amp;hl=en&amp;start=25&amp;zoom=1&amp;um=1&amp;itbs=1&amp;tbnid=0rXNspVCkS0aaM:&amp;tbnh=135&amp;tbnw=101&amp;prev=/images%3Fq%3Dpointing%2Bfinger%26start%3D20%26um%3D1%26hl%3Den%26safe%3Dactive%26sa%3DN%26rls%3Dcom.microsoft:en-us%26ndsp%3D20%26tbs%3Disch:1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google.com/imgres?imgurl=http://farm3.static.flickr.com/2140/2458474034_44de406b43_z.jpg&amp;imgrefurl=http://www.flickr.com/photos/iandeth/2458474034/&amp;usg=__LX52Ub0tmoFS9pRDFZJUqTb6QK4=&amp;h=427&amp;w=640&amp;sz=40&amp;hl=en&amp;start=56&amp;zoom=1&amp;itbs=1&amp;tbnid=UJN0XF64cTYKQM:&amp;tbnh=91&amp;tbnw=137&amp;prev=/images%3Fq%3Dblow%2Bpops%2Bstrawberries%26start%3D40%26hl%3Den%26safe%3Dactive%26sa%3DN%26gbv%3D2%26ndsp%3D20%26tbs%3Disch:1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www.google.com/imgres?imgurl=http://www.sugarstand.com/images/sc/sc0007.jpg&amp;imgrefurl=http://www.sugarstand.com/sc/sc0007-charms-blow-pop-assorted.htm&amp;usg=__4AN48dQ-w_rqWDNoSQoBrPNp1-4=&amp;h=450&amp;w=600&amp;sz=38&amp;hl=en&amp;start=62&amp;zoom=1&amp;itbs=1&amp;tbnid=NJQF9XZe4lWkaM:&amp;tbnh=101&amp;tbnw=135&amp;prev=/images%3Fq%3Dblow%2Bpops%2Bstrawberries%26start%3D60%26hl%3Den%26safe%3Dactive%26sa%3DN%26gbv%3D2%26ndsp%3D20%26tbs%3Disch:1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hyperlink" Target="http://www.google.com/imgres?imgurl=http://1.bp.blogspot.com/_cwkM0jdVSWc/SiVgx45-34I/AAAAAAAAAgI/SGpgYyOiulY/s400/blow%2Bpops.jpg&amp;imgrefurl=http://charlestheatreworkersunion.blogspot.com/2009/06/there-will-be-blow-pops.html&amp;usg=__FFiQgiA18CJrMIWM05vJQnE4rHY=&amp;h=300&amp;w=300&amp;sz=46&amp;hl=en&amp;start=3&amp;zoom=1&amp;itbs=1&amp;tbnid=emWZd5_uT6cyWM:&amp;tbnh=116&amp;tbnw=116&amp;prev=/images%3Fq%3Dblow%2Bpops%26hl%3Den%26safe%3Dactive%26gbv%3D2%26tbs%3Disch:1&amp;ei=P_VbTdPVCMaitgfp1rGbCw" TargetMode="External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ommnom.com/ebay/pics/CRW_9052.jpg&amp;imgrefurl=http://cgi.ebay.ie/2-x-American-Charms-SUPER-BLOW-POP-pops-38g-/300460331800&amp;usg=__Bcoch1P7PgmlNX5kvigCSAdimig=&amp;h=377&amp;w=640&amp;sz=95&amp;hl=en&amp;start=15&amp;zoom=1&amp;itbs=1&amp;tbnid=CTN-POQhtsIk7M:&amp;tbnh=81&amp;tbnw=137&amp;prev=/images%3Fq%3Dblow%2Bpops%2Bstrawberries%26hl%3Den%26safe%3Dactive%26gbv%3D2%26tbs%3Disch: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i34.tinypic.com/15p3kg6.jpg&amp;imgrefurl=http://www.atomicmall.com/cat.php%3Fid%3Dhome--garden%26sub%3DS2l0Y2hlbg%3D%3D%26subsub%3DRm9vZCBTdG9yYWdl%26o%3Dsid%26d%3Dasc%26s%3D0%26maxprice%3D%26li%3D&amp;usg=__lRnN1j6-IHloE2E7oWXW4b83nLQ=&amp;h=480&amp;w=640&amp;sz=71&amp;hl=en&amp;start=13&amp;zoom=1&amp;itbs=1&amp;tbnid=LjRpmYleuYd2dM:&amp;tbnh=103&amp;tbnw=137&amp;prev=/images%3Fq%3Dblow%2Bpops%2Bstrawberries%26hl%3Den%26safe%3Dactive%26gbv%3D2%26tbs%3Disch:1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google.com/imgres?imgurl=http://www.sweetjanes.com/images/8452.jpg&amp;imgrefurl=http://www.sweetjanes.com/index.php%3FcPath%3D120_119&amp;usg=__GEKTi7g1OBwB0CZfk3t1d_OSK6o=&amp;h=390&amp;w=390&amp;sz=43&amp;hl=en&amp;start=25&amp;zoom=1&amp;itbs=1&amp;tbnid=nVQgyp_n84bQ_M:&amp;tbnh=123&amp;tbnw=123&amp;prev=/images%3Fq%3Dblow%2Bpops%26start%3D20%26hl%3Den%26safe%3Dactive%26sa%3DN%26gbv%3D2%26ndsp%3D20%26tbs%3Disch:1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www.google.com/imgres?imgurl=http://d3hqdt8j93rgvn.cloudfront.net/Image/MEDIUM_8a78c6e02140d9310121415c1c171642.jpg&amp;imgrefurl=http://www.zeer.com/Food-Products/Charms-Assorted-Blow-Pop-Minis/000005744&amp;usg=__TsWdhmGcwfjNn9tL-It9Pc6_J3I=&amp;h=180&amp;w=180&amp;sz=10&amp;hl=en&amp;start=27&amp;zoom=1&amp;itbs=1&amp;tbnid=bY8EFMM9f7LUFM:&amp;tbnh=101&amp;tbnw=101&amp;prev=/images%3Fq%3Dblow%2Bpops%26start%3D20%26hl%3Den%26safe%3Dactive%26sa%3DN%26gbv%3D2%26ndsp%3D20%26tbs%3Disch:1" TargetMode="External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blowmesurfgear.com/yahoo_site_admin/assets/images/BlowPops.199163702.gif&amp;imgrefurl=http://www.blowmesurfgear.com/&amp;usg=__Z_fYGplSnBS8nUEq85cCAVOHNhA=&amp;h=150&amp;w=150&amp;sz=12&amp;hl=en&amp;start=22&amp;zoom=1&amp;itbs=1&amp;tbnid=-J-cu9FAowMXZM:&amp;tbnh=96&amp;tbnw=96&amp;prev=/images%3Fq%3Dblow%2Bpops%26start%3D20%26hl%3Den%26safe%3Dactive%26sa%3DN%26gbv%3D2%26ndsp%3D20%26tbs%3Disch:1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google.com/imgres?imgurl=http://s7.thisnext.com/media/230x230/Charms-Blow-Pops-Assorted_EA5BF2C7.jpg&amp;imgrefurl=http://www.thisnext.com/item/DFC991CE/413C2D23/Charms-Blow-Pops-Assorted&amp;usg=__U5iHOBmJs9dIUeAXFMw0sFLVW5s=&amp;h=230&amp;w=230&amp;sz=14&amp;hl=en&amp;start=21&amp;zoom=1&amp;itbs=1&amp;tbnid=WowC6AJ9xEWfXM:&amp;tbnh=108&amp;tbnw=108&amp;prev=/images%3Fq%3Dblow%2Bpops%26start%3D20%26hl%3Den%26safe%3Dactive%26sa%3DN%26gbv%3D2%26ndsp%3D20%26tbs%3Disch:1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farm3.static.flickr.com/2140/2458474034_44de406b43_z.jpg&amp;imgrefurl=http://www.flickr.com/photos/iandeth/2458474034/&amp;usg=__LX52Ub0tmoFS9pRDFZJUqTb6QK4=&amp;h=427&amp;w=640&amp;sz=40&amp;hl=en&amp;start=56&amp;zoom=1&amp;itbs=1&amp;tbnid=UJN0XF64cTYKQM:&amp;tbnh=91&amp;tbnw=137&amp;prev=/images%3Fq%3Dblow%2Bpops%2Bstrawberries%26start%3D40%26hl%3Den%26safe%3Dactive%26sa%3DN%26gbv%3D2%26ndsp%3D20%26tbs%3Disch:1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google.com/imgres?imgurl=http://www.binet.lv/go.pl%3FIMG%3D25712736O91&amp;imgrefurl=http://www.binet.lv/sucker/&amp;usg=__ESV38wO0tngeiV8aMxQL7U8IqJ8=&amp;h=370&amp;w=330&amp;sz=53&amp;hl=en&amp;start=39&amp;zoom=1&amp;itbs=1&amp;tbnid=m2xk5zeT1Ood8M:&amp;tbnh=122&amp;tbnw=109&amp;prev=/images%3Fq%3Dblow%2Bpops%26start%3D20%26hl%3Den%26safe%3Dactive%26sa%3DN%26gbv%3D2%26ndsp%3D20%26tbs%3Disch:1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secure.4imprint.com/imageserver/productimages/4imprint/Extras/100193/LARGE/100193-1.jpg&amp;imgrefurl=http://www.4imprint.com/product/100193&amp;usg=__f8YwMLBbvxq36IZfqjVAbjo7opQ=&amp;h=420&amp;w=700&amp;sz=49&amp;hl=en&amp;start=8&amp;zoom=1&amp;itbs=1&amp;tbnid=jo-ePo8Y4D5-lM:&amp;tbnh=84&amp;tbnw=140&amp;prev=/images%3Fq%3Dblow%2Bpops%2Bstrawberries%26hl%3Den%26safe%3Dactive%26gbv%3D2%26tbs%3Disch:1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www.google.com/imgres?imgurl=http://www.sweetjanes.com/images/8452.jpg&amp;imgrefurl=http://www.sweetjanes.com/index.php%3FcPath%3D120_119&amp;usg=__GEKTi7g1OBwB0CZfk3t1d_OSK6o=&amp;h=390&amp;w=390&amp;sz=43&amp;hl=en&amp;start=28&amp;zoom=1&amp;um=1&amp;itbs=1&amp;tbnid=nVQgyp_n84bQ_M:&amp;tbnh=123&amp;tbnw=123&amp;prev=/images%3Fq%3Dblow%2Bpops%26start%3D20%26um%3D1%26hl%3Den%26safe%3Dactive%26sa%3DN%26rls%3Dcom.microsoft:en-us%26ndsp%3D20%26tbs%3Disch:1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hyperlink" Target="http://www.google.com/imgres?imgurl=http://2.bp.blogspot.com/_VpW8JiTI9u8/SWWpa02b3KI/AAAAAAAADtI/VwxoYiCCHU4/s200/blowpops&amp;imgrefurl=http://smallbitesnutrition.blogspot.com/2009/01/you-ask-i-answer-lollipopscalorie.html&amp;usg=__q97uq3DTGEWwVKzd9YIWVanTnn4=&amp;h=200&amp;w=138&amp;sz=7&amp;hl=en&amp;start=20&amp;zoom=1&amp;itbs=1&amp;tbnid=THj2Tp2zA44lCM:&amp;tbnh=104&amp;tbnw=72&amp;prev=/images%3Fq%3Dblow%2Bpops%26hl%3Den%26safe%3Dactive%26gbv%3D2%26tbs%3Disch:1&amp;ei=P_VbTdPVCMaitgfp1rGbCw" TargetMode="External"/><Relationship Id="rId5" Type="http://schemas.openxmlformats.org/officeDocument/2006/relationships/image" Target="../media/image16.jpeg"/><Relationship Id="rId6" Type="http://schemas.openxmlformats.org/officeDocument/2006/relationships/hyperlink" Target="http://www.google.com/imgres?imgurl=http://www.crossroads-market.com/images/THHFCA956.GIF&amp;imgrefurl=http://www.hometownfavorites.com/Charms-Super-Blow-Pop-103-oz/productinfo/HFCA956/&amp;usg=__60vxd5l6A06tBkgN-2CliSKJdkU=&amp;h=110&amp;w=110&amp;sz=5&amp;hl=en&amp;start=124&amp;zoom=1&amp;itbs=1&amp;tbnid=91lSo_ZedCsmjM:&amp;tbnh=85&amp;tbnw=85&amp;prev=/images%3Fq%3Dblow%2Bpops%26start%3D120%26hl%3Den%26safe%3Dactive%26sa%3DN%26gbv%3D2%26ndsp%3D20%26tbs%3Disch:1&amp;ei=kvVbTcutG4OEtgf1z-2RCw" TargetMode="External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808"/>
            </a:gs>
            <a:gs pos="50000">
              <a:srgbClr val="00ffff"/>
            </a:gs>
            <a:gs pos="100000">
              <a:srgbClr val="08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Blow pops 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Do you like IT</a:t>
            </a:r>
            <a:br>
              <a:rPr sz="6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Shandi Belo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2920" y="1905120"/>
            <a:ext cx="1734840" cy="23191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920" y="304920"/>
            <a:ext cx="2286000" cy="1517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752480" y="4343400"/>
            <a:ext cx="266724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se are some of the pictures I did, people I tested, and some blow po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238880" y="1752480"/>
            <a:ext cx="1119240" cy="9446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7200" y="2895480"/>
            <a:ext cx="2743200" cy="190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648320" y="3048120"/>
            <a:ext cx="3124080" cy="24350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1752480" cy="15238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1447920" y="5105520"/>
            <a:ext cx="19047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on’t let the blind fold go up above there nose and I will make sure they can’t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let them keep the blow pop when they got done gues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of the people didn’t do so well but they were happy that they got a blow pop after they were do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hypothes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hypothesis was correct the girls did do better but I really don’t know wh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oys did good but they didn’t do as good as the gir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50000">
              <a:srgbClr val="00ff00"/>
            </a:gs>
            <a:gs pos="100000">
              <a:srgbClr val="ff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s cit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low pop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2/11/1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w blow pops are mad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2/11/1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low pops can be good for you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2/11/1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ill buy the blow pop’s and have different ki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ill have people taste one kind and see if they can tell what kind it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ill blind fold the people that I’m tes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ill be testing people by there self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ill right down there results and see if they guest r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590920" cy="15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think the blow pop’s will look really different, if I show them the color they might be able to guess what kind it is.  That is why I will be blind folding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think that the girls will do better then the boys because the girls might concentrate while the boys might mess around and be goof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9880" y="5183280"/>
            <a:ext cx="3654720" cy="16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need 3 gir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need 3 bo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need Blow p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per towel-To clean up a mes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c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th- to blind fold th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743200" cy="16765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 rot="19717800">
            <a:off x="4876560" y="1828440"/>
            <a:ext cx="1400040" cy="1171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934320" y="0"/>
            <a:ext cx="2209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oom-To do the testing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per-To write down what they answe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 rot="989400">
            <a:off x="1828440" y="3580920"/>
            <a:ext cx="52545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808"/>
            </a:gs>
            <a:gs pos="50000">
              <a:srgbClr val="ff33cc"/>
            </a:gs>
            <a:gs pos="100000">
              <a:srgbClr val="08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will take one girl first and test three different blow pop’s on 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I will come back get a boy and test the blow pop’s on hi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will make them get blind folded before they get to the 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ce they guess one and I will write down how they d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will also take off the wrapper so they can’t see the kind and I will keep the wrapper until there done, so I know what kind of flavor it i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34320" y="0"/>
            <a:ext cx="2209680" cy="15238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22096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90920" y="1523880"/>
            <a:ext cx="4876560" cy="3353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6ffff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girls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drah      Yes       No        Y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a             No       No         Y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yssa      Yes       Yes        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114800" y="1523880"/>
            <a:ext cx="0" cy="335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5867280" y="1523880"/>
            <a:ext cx="0" cy="335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90920" y="2895480"/>
            <a:ext cx="487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3886200"/>
            <a:ext cx="487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90920" y="1981080"/>
            <a:ext cx="487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52280"/>
            <a:ext cx="2286000" cy="15177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467480" y="0"/>
            <a:ext cx="1676520" cy="12952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3352680" y="1523880"/>
            <a:ext cx="3552840" cy="219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Any kind of lollipop will do as long as they </a:t>
            </a:r>
            <a:endParaRPr b="0" lang="en-US" sz="12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114800" y="1752480"/>
            <a:ext cx="1676520" cy="219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ccff"/>
                </a:solidFill>
                <a:latin typeface="Arial Black"/>
              </a:rPr>
              <a:t>guess the right one </a:t>
            </a:r>
            <a:endParaRPr b="0" lang="en-US" sz="1200" spc="1" strike="noStrike">
              <a:ln w="19080">
                <a:solidFill>
                  <a:srgbClr val="000000"/>
                </a:solidFill>
                <a:miter/>
              </a:ln>
              <a:solidFill>
                <a:srgbClr val="33cc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50000">
              <a:srgbClr val="fe2a2a"/>
            </a:gs>
            <a:gs pos="100000">
              <a:srgbClr val="66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438280" y="1600200"/>
            <a:ext cx="4876920" cy="358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6ffff"/>
              </a:gs>
              <a:gs pos="100000">
                <a:srgbClr val="ffffff"/>
              </a:gs>
            </a:gsLst>
            <a:lin ang="13500000"/>
          </a:gradFill>
          <a:ln w="3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oys resul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cob         Yes           Yes           No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             Yes           No            Y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s             No            No             N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38280" y="2057400"/>
            <a:ext cx="487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38280" y="3048120"/>
            <a:ext cx="487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114800" y="1600200"/>
            <a:ext cx="0" cy="35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867280" y="1600200"/>
            <a:ext cx="0" cy="35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38280" y="4114800"/>
            <a:ext cx="487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38280" y="5181480"/>
            <a:ext cx="487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362320" cy="14176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3200400" y="1600200"/>
            <a:ext cx="3552840" cy="219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Any kind of lollipop will do as long as they </a:t>
            </a:r>
            <a:endParaRPr b="0" lang="en-US" sz="12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114800" y="1828800"/>
            <a:ext cx="1676520" cy="219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66ffff"/>
                </a:solidFill>
                <a:latin typeface="Arial Black"/>
              </a:rPr>
              <a:t>guess the right one </a:t>
            </a:r>
            <a:endParaRPr b="0" lang="en-US" sz="1200" spc="1" strike="noStrike">
              <a:ln w="19080">
                <a:solidFill>
                  <a:srgbClr val="000000"/>
                </a:solidFill>
                <a:miter/>
              </a:ln>
              <a:solidFill>
                <a:srgbClr val="66ffff"/>
              </a:solidFill>
              <a:latin typeface="Arial Black"/>
              <a:ea typeface="Arial Black"/>
            </a:endParaRPr>
          </a:p>
        </p:txBody>
      </p:sp>
      <p:pic>
        <p:nvPicPr>
          <p:cNvPr id="8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 rot="21169800">
            <a:off x="7238880" y="1495080"/>
            <a:ext cx="167652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251160" cy="2438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648320" y="2362320"/>
            <a:ext cx="3581280" cy="2197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04920" y="3886200"/>
            <a:ext cx="3276360" cy="23288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705720" y="228600"/>
            <a:ext cx="1512720" cy="17524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095880" y="5334120"/>
            <a:ext cx="190512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16:23:00Z</dcterms:created>
  <dc:creator>USD376</dc:creator>
  <dc:description/>
  <dc:language>en-US</dc:language>
  <cp:lastModifiedBy>USD376</cp:lastModifiedBy>
  <dcterms:modified xsi:type="dcterms:W3CDTF">2011-02-16T20:11:43Z</dcterms:modified>
  <cp:revision>8</cp:revision>
  <dc:subject/>
  <dc:title>Rock Candy  Do you like IT</dc:title>
</cp:coreProperties>
</file>